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38.jpeg" ContentType="image/jpeg"/>
  <Override PartName="/ppt/media/image44.jpeg" ContentType="image/jpeg"/>
  <Override PartName="/ppt/media/image52.gif" ContentType="image/gif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  <p:custShowLst>
    <p:custShow name="Произвольный показ 1" id="0">
      <p:sldLst>
        <p:sld r:id="rId3"/>
        <p:sld r:id="rId4"/>
        <p:sld r:id="rId5"/>
        <p:sld r:id="rId6"/>
        <p:sld r:id="rId7"/>
        <p:sld r:id="rId8"/>
        <p:sld r:id="rId9"/>
        <p:sld r:id="rId11"/>
        <p:sld r:id="rId12"/>
        <p:sld r:id="rId19"/>
        <p:sld r:id="rId20"/>
        <p:sld r:id="rId21"/>
        <p:sld r:id="rId22"/>
        <p:sld r:id="rId23"/>
        <p:sld r:id="rId24"/>
        <p:sld r:id="rId25"/>
        <p:sld r:id="rId29"/>
        <p:sld r:id="rId30"/>
        <p:sld r:id="rId31"/>
        <p:sld r:id="rId32"/>
        <p:sld r:id="rId33"/>
        <p:sld r:id="rId37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1B2-E591-48A0-85F2-359FE55D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C93-A9CD-45F6-A3D3-AA2A5444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DF1-D25F-46CA-A31C-3D3E0CC8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FD1-5504-4F5A-917F-7CEC843F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374-F422-4EEA-B5FE-43DA6501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3DB-A3DD-4278-A528-BDEECB97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BCB-7C3E-4F5D-9860-9029AC7E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DF8-FB02-4E4D-804D-1D773829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AEB-1269-4DFB-A4C5-1E96100D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F48-2F53-4D0E-98A0-AE5FA83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9EC-BEED-4A73-A8BB-DA9E164E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A50-41F2-430A-BD80-D849D0B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76AC-175B-46E2-8BF9-24AA9C79E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87280" y="44280"/>
            <a:ext cx="6840720" cy="68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14400"/>
            <a:ext cx="7274160" cy="69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32080" y="0"/>
            <a:ext cx="627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7600" y="0"/>
            <a:ext cx="652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22320"/>
            <a:ext cx="705816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0720" y="6165720"/>
            <a:ext cx="20163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24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68560" y="0"/>
            <a:ext cx="4870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5904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685960" y="0"/>
            <a:ext cx="377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574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7920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6480"/>
            <a:ext cx="6985080" cy="67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457360"/>
            <a:ext cx="91440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25560"/>
            <a:ext cx="7920000" cy="687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1:41:53Z</dcterms:created>
  <dc:creator>Андрей</dc:creator>
  <dc:description/>
  <dc:language>en-US</dc:language>
  <cp:lastModifiedBy>Андрей</cp:lastModifiedBy>
  <dcterms:modified xsi:type="dcterms:W3CDTF">2010-05-22T06:20:55Z</dcterms:modified>
  <cp:revision>19</cp:revision>
  <dc:subject/>
  <dc:title>Слайд 1</dc:title>
</cp:coreProperties>
</file>