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38.jpeg" ContentType="image/jpeg"/>
  <Override PartName="/ppt/media/image44.jpeg" ContentType="image/jpeg"/>
  <Override PartName="/ppt/media/image52.gif" ContentType="image/gif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7"/>
        <p:sld r:id="rId8"/>
        <p:sld r:id="rId9"/>
        <p:sld r:id="rId11"/>
        <p:sld r:id="rId12"/>
        <p:sld r:id="rId19"/>
        <p:sld r:id="rId20"/>
        <p:sld r:id="rId21"/>
        <p:sld r:id="rId22"/>
        <p:sld r:id="rId23"/>
        <p:sld r:id="rId24"/>
        <p:sld r:id="rId25"/>
        <p:sld r:id="rId29"/>
        <p:sld r:id="rId30"/>
        <p:sld r:id="rId31"/>
        <p:sld r:id="rId32"/>
        <p:sld r:id="rId33"/>
        <p:sld r:id="rId37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B60-BD44-4F16-97C9-98ED351B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CF5-9FC0-41E1-96D3-1FC9AF3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60F-76C2-43EF-BCDE-734036B7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503-BC11-446D-9554-E5273527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A04-5F43-4269-B6A6-4B0594A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792-FFF4-4C01-8077-735B59E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F33-C0A6-4B14-A725-DE94617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F04-DE6D-4A46-BF14-C1B9E5C5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7FD-4E33-401C-88C4-4BB71EF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2B9-926E-41B3-BF6C-B125777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2E4-BA67-486E-BC14-C766579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F51-D47C-4127-88CC-DA1D525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590-8983-4B95-966F-CBBC5EB02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4400"/>
            <a:ext cx="727416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7600" y="0"/>
            <a:ext cx="65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22320"/>
            <a:ext cx="705816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6165720"/>
            <a:ext cx="20163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24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8596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574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7920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6480"/>
            <a:ext cx="698508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9144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5560"/>
            <a:ext cx="7920000" cy="68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1:41:53Z</dcterms:created>
  <dc:creator>Андрей</dc:creator>
  <dc:description/>
  <dc:language>en-US</dc:language>
  <cp:lastModifiedBy>Андрей</cp:lastModifiedBy>
  <dcterms:modified xsi:type="dcterms:W3CDTF">2010-05-22T06:20:55Z</dcterms:modified>
  <cp:revision>19</cp:revision>
  <dc:subject/>
  <dc:title>Слайд 1</dc:title>
</cp:coreProperties>
</file>