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26.jpeg" ContentType="image/jpeg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33.jpeg" ContentType="image/jpeg"/>
  <Override PartName="/ppt/media/image38.jpeg" ContentType="image/jpeg"/>
  <Override PartName="/ppt/media/image44.jpeg" ContentType="image/jpeg"/>
  <Override PartName="/ppt/media/image52.gif" ContentType="image/gif"/>
  <Override PartName="/ppt/media/image45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23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  <p:custShowLst>
    <p:custShow name="Произвольный показ 1" id="0">
      <p:sldLst>
        <p:sld r:id="rId3"/>
        <p:sld r:id="rId4"/>
        <p:sld r:id="rId5"/>
        <p:sld r:id="rId6"/>
        <p:sld r:id="rId7"/>
        <p:sld r:id="rId8"/>
        <p:sld r:id="rId9"/>
        <p:sld r:id="rId11"/>
        <p:sld r:id="rId12"/>
        <p:sld r:id="rId19"/>
        <p:sld r:id="rId20"/>
        <p:sld r:id="rId21"/>
        <p:sld r:id="rId22"/>
        <p:sld r:id="rId23"/>
        <p:sld r:id="rId24"/>
        <p:sld r:id="rId25"/>
        <p:sld r:id="rId29"/>
        <p:sld r:id="rId30"/>
        <p:sld r:id="rId31"/>
        <p:sld r:id="rId32"/>
        <p:sld r:id="rId33"/>
        <p:sld r:id="rId37"/>
        <p:sld r:id="rId3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4D02-6B2C-4FB2-8D66-A10661A19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677A-F650-4126-9816-5F79030B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F16A-C7F2-4687-9336-68913849D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6FAB-2F31-4DA2-AF89-75F542721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BDA0-9088-4254-B56D-03E2D570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AD29-65BE-4EF6-8BE2-F0FEBCBE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CE9D-5009-4BFD-9A2E-7D85448B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5BBA-9AD6-4643-AAD9-2CB577D5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BBA6-3B32-482C-82E6-826623CA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8A6D-CB92-4E49-AECD-3AD545FD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110E-10DE-44A8-964B-4CA28D77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47FB-CDA5-4307-A859-9416C605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9557-D140-4655-ACCC-A01F91AD8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2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042920" y="6165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38440" y="0"/>
            <a:ext cx="5761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74960" y="0"/>
            <a:ext cx="5194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87280" y="44280"/>
            <a:ext cx="6840720" cy="684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42920" y="14400"/>
            <a:ext cx="7274160" cy="69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9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63272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32080" y="0"/>
            <a:ext cx="6279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7600" y="0"/>
            <a:ext cx="6523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42920" y="22320"/>
            <a:ext cx="7058160" cy="6851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300720" y="6165720"/>
            <a:ext cx="201636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201600"/>
            <a:ext cx="9144000" cy="637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124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068560" y="0"/>
            <a:ext cx="48704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988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85904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16000" y="-27000"/>
            <a:ext cx="6912000" cy="69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16000" y="-27000"/>
            <a:ext cx="6912000" cy="69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685960" y="0"/>
            <a:ext cx="377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1574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9640" y="-7920"/>
            <a:ext cx="79200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955880" y="0"/>
            <a:ext cx="5234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16000" y="6480"/>
            <a:ext cx="6985080" cy="678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2457360"/>
            <a:ext cx="9144000" cy="19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16000" y="-27000"/>
            <a:ext cx="6912000" cy="69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4360" y="25560"/>
            <a:ext cx="7920000" cy="6872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01:41:53Z</dcterms:created>
  <dc:creator>Андрей</dc:creator>
  <dc:description/>
  <dc:language>en-US</dc:language>
  <cp:lastModifiedBy>Андрей</cp:lastModifiedBy>
  <dcterms:modified xsi:type="dcterms:W3CDTF">2010-05-22T06:20:55Z</dcterms:modified>
  <cp:revision>19</cp:revision>
  <dc:subject/>
  <dc:title>Слайд 1</dc:title>
</cp:coreProperties>
</file>