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11C5-05D8-45EB-9AC3-AC601D2F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10E-96C3-47FA-BD78-E2CB8A7B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0A5-730F-447E-8AB5-BDB9624F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8131-6656-4D39-B8DD-F8475023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BFC8-0305-4C2E-BFDF-D7AFFE1D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5186-D66C-4D09-8BB2-826E5483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FB01-9FE8-48AD-BD63-87CE3EE0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00CE-F72C-41CC-92AC-8951CD71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B95B-CE48-4E24-86FF-0F0694F9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D8DA-3BB0-435D-84D3-09215694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274-A678-4C93-B65A-09457B6F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6E8-E6E5-4AC2-B976-58B7D39A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689B-A8B0-4B55-98D1-5293BC8978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Урок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www.booksiti.net.ru/books/6973450.jpg"/>
          <p:cNvPicPr/>
          <p:nvPr/>
        </p:nvPicPr>
        <p:blipFill>
          <a:blip r:embed="rId1"/>
          <a:stretch/>
        </p:blipFill>
        <p:spPr>
          <a:xfrm>
            <a:off x="5715000" y="3214800"/>
            <a:ext cx="230508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www.goodhouse.ru/upload/200400986-002.jpg"/>
          <p:cNvPicPr/>
          <p:nvPr/>
        </p:nvPicPr>
        <p:blipFill>
          <a:blip r:embed="rId1"/>
          <a:stretch/>
        </p:blipFill>
        <p:spPr>
          <a:xfrm>
            <a:off x="142920" y="0"/>
            <a:ext cx="7439040" cy="4429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5929200" y="4786200"/>
            <a:ext cx="292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Х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714240" y="571680"/>
            <a:ext cx="74296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х! Ура! Ух ты! Ах! Фу! Ого! Ха-ха! Браво! Увы!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6715080" y="2500200"/>
            <a:ext cx="17859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500040" y="1071720"/>
            <a:ext cx="7715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одцы!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714760" y="2714760"/>
            <a:ext cx="40003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285840" y="135720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жалил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143000" y="264312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фь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286080" y="1428840"/>
            <a:ext cx="17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й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4786200" y="150012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ьша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4214880" y="264312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143760" y="4000680"/>
            <a:ext cx="285732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142920" y="142884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й, ужалила Софью большая ос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ая соединительная линия 3"/>
          <p:cNvSpPr/>
          <p:nvPr/>
        </p:nvSpPr>
        <p:spPr>
          <a:xfrm>
            <a:off x="214200" y="2071800"/>
            <a:ext cx="35748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4"/>
          <p:cNvSpPr/>
          <p:nvPr/>
        </p:nvSpPr>
        <p:spPr>
          <a:xfrm>
            <a:off x="3357720" y="2071800"/>
            <a:ext cx="28548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5"/>
          <p:cNvSpPr/>
          <p:nvPr/>
        </p:nvSpPr>
        <p:spPr>
          <a:xfrm>
            <a:off x="4357800" y="2071800"/>
            <a:ext cx="21420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6"/>
          <p:cNvSpPr/>
          <p:nvPr/>
        </p:nvSpPr>
        <p:spPr>
          <a:xfrm>
            <a:off x="5500800" y="2071800"/>
            <a:ext cx="21420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7"/>
          <p:cNvSpPr/>
          <p:nvPr/>
        </p:nvSpPr>
        <p:spPr>
          <a:xfrm>
            <a:off x="6000840" y="2071800"/>
            <a:ext cx="28584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8"/>
          <p:cNvSpPr/>
          <p:nvPr/>
        </p:nvSpPr>
        <p:spPr>
          <a:xfrm>
            <a:off x="7358040" y="2071800"/>
            <a:ext cx="28584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>
            <a:off x="8143920" y="2071800"/>
            <a:ext cx="28584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ая соединительная линия 12"/>
          <p:cNvSpPr/>
          <p:nvPr/>
        </p:nvSpPr>
        <p:spPr>
          <a:xfrm>
            <a:off x="7215120" y="2143080"/>
            <a:ext cx="128592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15"/>
          <p:cNvSpPr/>
          <p:nvPr/>
        </p:nvSpPr>
        <p:spPr>
          <a:xfrm>
            <a:off x="1143000" y="2071800"/>
            <a:ext cx="200016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17"/>
          <p:cNvSpPr/>
          <p:nvPr/>
        </p:nvSpPr>
        <p:spPr>
          <a:xfrm>
            <a:off x="1143000" y="2214720"/>
            <a:ext cx="200016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26"/>
          <p:cNvSpPr/>
          <p:nvPr/>
        </p:nvSpPr>
        <p:spPr>
          <a:xfrm>
            <a:off x="2714760" y="1071720"/>
            <a:ext cx="0" cy="57132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29"/>
          <p:cNvSpPr/>
          <p:nvPr/>
        </p:nvSpPr>
        <p:spPr>
          <a:xfrm>
            <a:off x="2714760" y="1071720"/>
            <a:ext cx="1643040" cy="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Прямая со стрелкой 32"/>
          <p:cNvCxnSpPr/>
          <p:nvPr/>
        </p:nvCxnSpPr>
        <p:spPr>
          <a:xfrm flipH="1">
            <a:off x="4357440" y="1071360"/>
            <a:ext cx="2160" cy="572040"/>
          </a:xfrm>
          <a:prstGeom prst="straightConnector1">
            <a:avLst/>
          </a:prstGeom>
          <a:ln w="57240">
            <a:solidFill>
              <a:srgbClr val="236729"/>
            </a:solidFill>
            <a:miter/>
            <a:tailEnd len="med" type="arrow" w="med"/>
          </a:ln>
        </p:spPr>
      </p:cxnSp>
      <p:sp>
        <p:nvSpPr>
          <p:cNvPr id="63" name="Прямая соединительная линия 46"/>
          <p:cNvSpPr/>
          <p:nvPr/>
        </p:nvSpPr>
        <p:spPr>
          <a:xfrm>
            <a:off x="7929720" y="1143000"/>
            <a:ext cx="0" cy="57168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48"/>
          <p:cNvSpPr/>
          <p:nvPr/>
        </p:nvSpPr>
        <p:spPr>
          <a:xfrm flipV="1">
            <a:off x="6357960" y="1143000"/>
            <a:ext cx="1562040" cy="9360"/>
          </a:xfrm>
          <a:prstGeom prst="line">
            <a:avLst/>
          </a:prstGeom>
          <a:ln w="57240">
            <a:solidFill>
              <a:srgbClr val="236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Прямая со стрелкой 50"/>
          <p:cNvCxnSpPr/>
          <p:nvPr/>
        </p:nvCxnSpPr>
        <p:spPr>
          <a:xfrm flipH="1">
            <a:off x="6357600" y="1143000"/>
            <a:ext cx="2160" cy="572400"/>
          </a:xfrm>
          <a:prstGeom prst="straightConnector1">
            <a:avLst/>
          </a:prstGeom>
          <a:ln w="57240">
            <a:solidFill>
              <a:srgbClr val="236729"/>
            </a:solidFill>
            <a:miter/>
            <a:tailEnd len="med" type="arrow" w="med"/>
          </a:ln>
        </p:spPr>
      </p:cxn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572080" y="3714840"/>
            <a:ext cx="29289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572240" y="5324400"/>
            <a:ext cx="1214640" cy="1104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7429680" y="142920"/>
            <a:ext cx="1214280" cy="1104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142920" y="214200"/>
            <a:ext cx="1214280" cy="1104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4"/>
          <a:stretch/>
        </p:blipFill>
        <p:spPr>
          <a:xfrm>
            <a:off x="142920" y="5572080"/>
            <a:ext cx="1214280" cy="1104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5"/>
          <a:stretch/>
        </p:blipFill>
        <p:spPr>
          <a:xfrm>
            <a:off x="3929040" y="2571840"/>
            <a:ext cx="12146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-0.00069 -0.78172 E"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93 -0.0213 L -0.79705 -0.02176 E">
                                      <p:cBhvr>
                                        <p:cTn id="18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000"/>
                            </p:stCondLst>
                            <p:childTnLst>
                              <p:par>
                                <p:cTn id="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3217 L -0.00729 0.77593 E">
                                      <p:cBhvr>
                                        <p:cTn id="30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48148E-006 L 0.40174 -0.40879 E">
                                      <p:cBhvr>
                                        <p:cTn id="42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45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2.59259E-006 C 0.00834 -0.00046 0.01667 -0.0007 0.025 -0.00162 C 0.04045 -0.00324 0.05573 -0.02037 0.06424 -0.03634 C 0.06719 -0.04838 0.06545 -0.04306 0.0691 -0.05232 C 0.07153 -0.0669 0.06979 -0.08218 0.07257 -0.09676 C 0.07222 -0.10834 0.0724 -0.12037 0.07136 -0.13195 C 0.07049 -0.14121 0.06007 -0.15162 0.0559 -0.15718 C 0.04705 -0.16921 0.03577 -0.18195 0.02379 -0.18889 C 0.0158 -0.19352 0.00504 -0.19491 -0.00364 -0.19676 C -0.03334 -0.1963 -0.0632 -0.19607 -0.09289 -0.19514 C -0.1014 -0.19491 -0.10973 -0.18959 -0.11789 -0.18727 C -0.12588 -0.18519 -0.13577 -0.1831 -0.14289 -0.17778 C -0.15209 -0.17107 -0.16077 -0.16134 -0.17032 -0.15556 C -0.17726 -0.14584 -0.18508 -0.13773 -0.19167 -0.12709 C -0.19549 -0.12084 -0.19671 -0.1132 -0.20001 -0.10625 C -0.20296 -0.08704 -0.19897 -0.10787 -0.20365 -0.09375 C -0.20626 -0.08565 -0.20747 -0.07639 -0.20956 -0.06829 C -0.21025 -0.05625 -0.21025 -0.04607 -0.2132 -0.03496 C -0.21546 -0.01412 -0.2198 0.00625 -0.22258 0.02708 C -0.22206 0.03819 -0.22431 0.06204 -0.21546 0.06991 C -0.20713 0.08495 -0.1948 0.10579 -0.18213 0.11435 C -0.17275 0.12685 -0.17709 0.12222 -0.17032 0.1287 C -0.16667 0.13565 -0.16112 0.13935 -0.15591 0.14421 C -0.14549 0.15463 -0.13629 0.16342 -0.12501 0.17129 C -0.11737 0.17708 -0.11286 0.18287 -0.10487 0.18588 C -0.08612 0.2037 -0.06286 0.21157 -0.04046 0.21759 C -0.02345 0.2169 -0.00625 0.21666 0.01077 0.21574 C 0.01719 0.21551 0.02969 0.21088 0.02969 0.21088 C 0.03646 0.20694 0.04393 0.20324 0.05122 0.20139 C 0.05677 0.19838 0.06077 0.19375 0.06667 0.19213 C 0.0717 0.18773 0.07691 0.18472 0.08212 0.18102 C 0.08507 0.175 0.08837 0.1743 0.09288 0.16991 C 0.09775 0.15949 0.09202 0.17014 0.09879 0.1618 C 0.10347 0.15648 0.10868 0.14629 0.11424 0.14143 C 0.12101 0.12778 0.12813 0.11435 0.13577 0.10162 C 0.14115 0.09282 0.1474 0.08518 0.15243 0.07592 C 0.15625 0.06898 0.15747 0.06319 0.16181 0.05717 C 0.16354 0.05046 0.1658 0.0456 0.1691 0.03981 C 0.17084 0.03356 0.17188 0.02662 0.17379 0.0206 C 0.17604 0.01366 0.17917 0.00717 0.1809 -2.59259E-006 C 0.18386 -0.07732 0.18299 -0.04375 0.1809 -0.18241 C 0.18073 -0.19792 0.17101 -0.21667 0.16302 -0.22685 C 0.15938 -0.24121 0.15156 -0.24445 0.14288 -0.2507 C 0.13698 -0.25509 0.13247 -0.26065 0.12622 -0.26343 C 0.12118 -0.27037 0.11667 -0.26806 0.11077 -0.27292 C 0.10851 -0.27477 0.10695 -0.27755 0.10469 -0.2794 C 0.10104 -0.28264 0.09879 -0.28218 0.09514 -0.28403 C 0.08386 -0.29051 0.09722 -0.28357 0.08577 -0.2919 C 0.08056 -0.29584 0.07431 -0.29769 0.0691 -0.30162 C 0.06007 -0.3081 0.04948 -0.31435 0.03924 -0.31736 C 0.02309 -0.32199 0.00643 -0.32292 -0.00955 -0.32847 C -0.05018 -0.32755 -0.06997 -0.32685 -0.10365 -0.32222 C -0.12379 -0.31528 -0.10105 -0.32246 -0.13091 -0.31574 C -0.14428 -0.31273 -0.1573 -0.30648 -0.17032 -0.30162 C -0.17154 -0.30046 -0.17258 -0.29931 -0.17379 -0.29838 C -0.17536 -0.29722 -0.17709 -0.29653 -0.17865 -0.29514 C -0.18525 -0.28935 -0.18994 -0.28264 -0.19758 -0.2794 C -0.20296 -0.27408 -0.20556 -0.27014 -0.21199 -0.26667 C -0.21598 -0.2581 -0.22501 -0.25232 -0.23213 -0.24931 C -0.23924 -0.2419 -0.24411 -0.23287 -0.25001 -0.22384 C -0.25504 -0.21597 -0.26251 -0.2081 -0.26546 -0.19838 C -0.26772 -0.19097 -0.2698 -0.18634 -0.27258 -0.1794 C -0.2757 -0.17153 -0.27588 -0.16574 -0.27987 -0.15857 C -0.28091 -0.14838 -0.28351 -0.13773 -0.28699 -0.12847 C -0.28733 -0.12616 -0.28751 -0.12315 -0.2882 -0.12084 C -0.28872 -0.11852 -0.29011 -0.11644 -0.29046 -0.11412 C -0.29167 -0.10695 -0.29185 -0.09954 -0.29289 -0.0919 C -0.29254 -0.07107 -0.2974 0.00185 -0.28456 0.03495 C -0.28299 0.04305 -0.27987 0.05046 -0.27622 0.05717 C -0.27588 0.05926 -0.2757 0.06134 -0.27501 0.06366 C -0.27362 0.06805 -0.27032 0.07592 -0.27032 0.07592 C -0.26841 0.08935 -0.26112 0.1 -0.25713 0.1125 C -0.254 0.12199 -0.25417 0.1294 -0.24879 0.13657 C -0.24549 0.14815 -0.2389 0.16435 -0.23091 0.17129 C -0.22831 0.1787 -0.22536 0.18287 -0.22032 0.18727 C -0.2165 0.19421 -0.2132 0.19722 -0.20713 0.2 C -0.19671 0.20995 -0.18473 0.21921 -0.17501 0.23009 C -0.16581 0.24074 -0.1481 0.25926 -0.13699 0.26481 C -0.13178 0.27176 -0.12605 0.27616 -0.11911 0.2794 C -0.11095 0.28773 -0.09931 0.29653 -0.08924 0.29977 C -0.08004 0.30903 -0.07119 0.31319 -0.06077 0.31898 C -0.05921 0.31991 -0.05765 0.32106 -0.05591 0.32199 C -0.05365 0.32338 -0.04879 0.32546 -0.04879 0.32546 C -0.04393 0.32963 -0.03907 0.33032 -0.03334 0.33148 C -0.01997 0.33912 -0.00607 0.34004 0.00834 0.3412 C 0.05868 0.33935 0.04306 0.34028 0.07622 0.33148 C 0.08472 0.32592 0.09427 0.32083 0.10347 0.31759 C 0.1099 0.31204 0.11788 0.30856 0.125 0.30463 C 0.14063 0.28403 0.16077 0.26597 0.17847 0.24745 C 0.18108 0.24074 0.18403 0.23565 0.18802 0.23009 C 0.19393 0.21041 0.18559 0.23588 0.19636 0.21273 C 0.19792 0.20903 0.19844 0.20509 0.2 0.20139 C 0.20174 0.19745 0.204 0.19421 0.2059 0.19051 C 0.20677 0.18866 0.20834 0.18588 0.20834 0.18588 C 0.21094 0.17569 0.21771 0.16551 0.22257 0.15694 C 0.22917 0.14514 0.2349 0.13171 0.24045 0.11921 C 0.24254 0.11435 0.24462 0.1125 0.24636 0.1081 C 0.25104 0.09514 0.25486 0.08148 0.25834 0.06805 C 0.25972 0.06319 0.26268 0.05903 0.26424 0.05393 C 0.26476 0.05254 0.26511 0.05092 0.26545 0.0493 C 0.26597 0.04722 0.26597 0.04491 0.26667 0.04282 C 0.26962 0.03333 0.2717 0.03125 0.27379 0.02222 C 0.27743 0.00625 0.27882 -0.01227 0.28455 -0.02685 C 0.28351 -0.07894 0.28646 -0.07755 0.27847 -0.10972 C 0.27761 -0.11898 0.27552 -0.12616 0.27379 -0.13496 C 0.27118 -0.16482 0.26736 -0.19792 0.26181 -0.22685 C 0.26077 -0.24236 0.25781 -0.25533 0.25347 -0.26968 C 0.25139 -0.29097 0.23889 -0.32685 0.225 -0.33959 C 0.21858 -0.34537 0.21198 -0.35162 0.20469 -0.35556 C 0.20122 -0.35741 0.1941 -0.36019 0.1941 -0.36019 C 0.17813 -0.37431 0.15452 -0.37662 0.13577 -0.3794 C 0.13455 -0.37986 0.13334 -0.38056 0.13212 -0.38079 C 0.12934 -0.38148 0.12656 -0.38148 0.12379 -0.38241 C 0.11945 -0.38403 0.11493 -0.38843 0.11077 -0.39051 C 0.10486 -0.39352 0.09879 -0.39445 0.09288 -0.39676 C 0.08525 -0.39977 0.07813 -0.40463 0.07014 -0.40625 C 0.04879 -0.41042 0.02761 -0.41366 0.0059 -0.41574 C -0.04879 -0.41482 -0.10261 -0.41273 -0.15713 -0.41111 C -0.17345 -0.40787 -0.18959 -0.40579 -0.20591 -0.40301 C -0.21025 -0.40093 -0.21511 -0.4 -0.21911 -0.39676 C -0.23004 -0.38773 -0.22501 -0.39005 -0.23334 -0.38727 C -0.25088 -0.37338 -0.26737 -0.35695 -0.28213 -0.33796 C -0.28751 -0.33102 -0.29515 -0.31945 -0.30122 -0.31412 C -0.30417 -0.30648 -0.30904 -0.30185 -0.3132 -0.29514 C -0.31702 -0.28912 -0.31997 -0.28241 -0.32501 -0.27778 C -0.3297 -0.26528 -0.33786 -0.25579 -0.34411 -0.24445 C -0.34532 -0.24236 -0.34688 -0.24051 -0.34758 -0.23796 C -0.34845 -0.23542 -0.34879 -0.23241 -0.35001 -0.23009 C -0.35122 -0.22755 -0.35348 -0.22616 -0.35487 -0.22384 C -0.36112 -0.21366 -0.36546 -0.20093 -0.36911 -0.18889 C -0.37032 -0.17639 -0.37292 -0.16574 -0.37622 -0.15417 C -0.37744 -0.14931 -0.37987 -0.13959 -0.37987 -0.13959 C -0.38126 -0.12616 -0.38438 -0.11366 -0.38577 -0.1 C -0.38525 -0.05185 -0.39411 -0.00093 -0.38213 0.04444 C -0.38091 0.05416 -0.3797 0.06412 -0.37622 0.07291 C -0.37292 0.08148 -0.36893 0.08935 -0.36667 0.09815 C -0.36476 0.10579 -0.36459 0.11342 -0.36199 0.12037 C -0.35956 0.12685 -0.35661 0.13264 -0.35487 0.13958 C -0.34827 0.16713 -0.34272 0.19467 -0.33577 0.22222 C -0.33265 0.23403 -0.32136 0.24467 -0.31546 0.25393 C -0.29775 0.28125 -0.27848 0.30717 -0.26077 0.33472 C -0.24584 0.35833 -0.23178 0.38287 -0.21546 0.40486 C -0.20834 0.41435 -0.19845 0.4206 -0.19046 0.4287 C -0.18369 0.43541 -0.17726 0.44375 -0.16911 0.44745 C -0.16424 0.45231 -0.16164 0.45509 -0.15591 0.45694 C -0.15122 0.4618 -0.14845 0.46481 -0.14289 0.46666 C -0.13681 0.47199 -0.13091 0.47546 -0.12379 0.47778 C -0.11233 0.48958 -0.12622 0.47662 -0.1132 0.48426 C -0.11129 0.48541 -0.11025 0.48773 -0.10834 0.48889 C -0.1007 0.49329 -0.09133 0.49421 -0.08334 0.49699 C -0.0757 0.5037 -0.06598 0.50347 -0.05713 0.50486 C -0.03595 0.51227 -0.01251 0.5125 0.00834 0.50324 C 0.01459 0.49745 0.02917 0.4919 0.03681 0.49051 C 0.05382 0.47916 0.07275 0.47037 0.09167 0.46666 C 0.09462 0.46481 0.09705 0.4618 0.1 0.46018 C 0.10521 0.45717 0.11129 0.45625 0.11667 0.45393 C 0.13837 0.44352 0.12118 0.45139 0.13334 0.44444 C 0.14636 0.43657 0.16129 0.4331 0.175 0.4287 C 0.18143 0.42245 0.18924 0.42153 0.19636 0.41736 C 0.20209 0.41435 0.20747 0.40972 0.21302 0.40648 C 0.21424 0.40579 0.22674 0.40069 0.22969 0.39815 C 0.23698 0.39236 0.24427 0.38541 0.25122 0.3794 C 0.25868 0.37268 0.26441 0.34791 0.26667 0.33634 C 0.26684 0.33541 0.2684 0.32662 0.2691 0.32546 C 0.27761 0.30764 0.29219 0.2919 0.3059 0.28241 C 0.3125 0.26944 0.32587 0.26273 0.33212 0.2493 C 0.33802 0.2368 0.34653 0.22685 0.35243 0.21435 C 0.35556 0.20787 0.35538 0.20393 0.35955 0.19838 C 0.36146 0.1912 0.36945 0.17083 0.37379 0.16504 C 0.37552 0.15416 0.37518 0.15301 0.3809 0.14143 C 0.38334 0.13657 0.38802 0.12685 0.38802 0.12685 C 0.38976 0.11921 0.39254 0.11389 0.3941 0.10648 C 0.39601 0.09676 0.39844 0.08727 0.40122 0.07778 C 0.4092 0.00532000000000001 0.40799 -0.13935 0.38455 -0.22847 C 0.38334 -0.23959 0.38229 -0.24884 0.37847 -0.2588 C 0.37674 -0.27199 0.37327 -0.28403 0.37014 -0.29676 C 0.36806 -0.31621 0.36354 -0.33218 0.35 -0.34121 E">
                                      <p:cBhvr>
                                        <p:cTn id="54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9500"/>
                            </p:stCondLst>
                            <p:childTnLst>
                              <p:par>
                                <p:cTn id="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357120" y="285840"/>
            <a:ext cx="221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р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2500200" y="270000"/>
            <a:ext cx="18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4214880" y="27000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ёлты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7000920" y="270000"/>
            <a:ext cx="171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ч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357120" y="1428840"/>
            <a:ext cx="428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анжевы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4214880" y="141300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чтат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7143840" y="1413000"/>
            <a:ext cx="185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357120" y="2571840"/>
            <a:ext cx="30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хо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2571840" y="2571840"/>
            <a:ext cx="235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т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5286240" y="2556000"/>
            <a:ext cx="164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но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571680" y="407196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домети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carlosdragonne.files.wordpress.com/2009/04/hiding.jpg"/>
          <p:cNvPicPr/>
          <p:nvPr/>
        </p:nvPicPr>
        <p:blipFill>
          <a:blip r:embed="rId1"/>
          <a:stretch/>
        </p:blipFill>
        <p:spPr>
          <a:xfrm>
            <a:off x="285840" y="357120"/>
            <a:ext cx="4962600" cy="400068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5572080" y="3929040"/>
            <a:ext cx="30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Х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6143760" y="4643280"/>
            <a:ext cx="25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Х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http://open.az/uploads/posts/2009-09/1253812665_s_119.jpg"/>
          <p:cNvPicPr/>
          <p:nvPr/>
        </p:nvPicPr>
        <p:blipFill>
          <a:blip r:embed="rId1"/>
          <a:stretch/>
        </p:blipFill>
        <p:spPr>
          <a:xfrm>
            <a:off x="142920" y="214200"/>
            <a:ext cx="69292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kemclub.ru/best/3535997.jpg"/>
          <p:cNvPicPr/>
          <p:nvPr/>
        </p:nvPicPr>
        <p:blipFill>
          <a:blip r:embed="rId1"/>
          <a:stretch/>
        </p:blipFill>
        <p:spPr>
          <a:xfrm>
            <a:off x="142920" y="142920"/>
            <a:ext cx="6222960" cy="450036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6215040" y="4786200"/>
            <a:ext cx="257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Й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www.assalam.ru/assalam2009/337/img/deti2_big.jpg"/>
          <p:cNvPicPr/>
          <p:nvPr/>
        </p:nvPicPr>
        <p:blipFill>
          <a:blip r:embed="rId1"/>
          <a:stretch/>
        </p:blipFill>
        <p:spPr>
          <a:xfrm>
            <a:off x="0" y="0"/>
            <a:ext cx="6492960" cy="44290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5786280" y="4786200"/>
            <a:ext cx="285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Й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ACKEDITION</cp:lastModifiedBy>
  <dcterms:modified xsi:type="dcterms:W3CDTF">2010-12-06T07:07:22Z</dcterms:modified>
  <cp:revision>19</cp:revision>
  <dc:subject/>
  <dc:title>Урок русского языка</dc:title>
</cp:coreProperties>
</file>